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A3364-D873-44D5-828D-3F5072B9D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33618-2391-4359-AC50-BF86E98E0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F3604-46CD-41C0-81EE-86594E25F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1D427-315F-4BC8-BFAD-AA0DE519B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08012-84C4-4409-972E-8A98B035B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C57FB-EBE1-4A2F-894A-BCCB83327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79056-62F1-452E-9C94-2E9C1C31E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289A5-BE81-4741-ADCD-ED7782DF7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41A3F-CCA9-4F44-997B-AF585FDD8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BC23C-2394-493B-9374-F8857E5F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EBB4-CF62-40C6-BF74-9787BA17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6D6E-F269-4A11-ABA8-93A1FA9F5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DF77-B32E-4F1A-B289-4C20230D54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2810880" y="5791320"/>
            <a:ext cx="358380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5</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he Bible Teaches</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95280" y="2743200"/>
            <a:ext cx="7010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Colossians 2:13-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0" lang="en-US" sz="2800" spc="-1" strike="noStrike">
                <a:solidFill>
                  <a:srgbClr val="000000"/>
                </a:solidFill>
                <a:latin typeface="Arial"/>
              </a:rPr>
              <a:t> And you, being dead in your trespasses and the uncircumcision of your flesh, He has made alive together with Him, having forgiven you all trespas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having wiped out the handwriting of requirements that was against us, which was contrary to us. And He has taken it out of the way, having nailed it to the cross.</a:t>
            </a:r>
            <a:endParaRPr b="0" lang="en-US" sz="2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Hebrews 7:12 say necessitated changing God’s law? </a:t>
            </a:r>
            <a:endParaRPr b="0" lang="en-US" sz="2800" spc="-1" strike="noStrike">
              <a:solidFill>
                <a:srgbClr val="000000"/>
              </a:solidFill>
              <a:latin typeface="Arial"/>
            </a:endParaRPr>
          </a:p>
        </p:txBody>
      </p:sp>
      <p:sp>
        <p:nvSpPr>
          <p:cNvPr id="88"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23</a:t>
            </a:r>
            <a:endParaRPr b="0" lang="en-US" sz="2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Hebrews 7:18 say as to why the Old Law was taken away? </a:t>
            </a:r>
            <a:endParaRPr b="0" lang="en-US" sz="2800" spc="-1" strike="noStrike">
              <a:solidFill>
                <a:srgbClr val="000000"/>
              </a:solidFill>
              <a:latin typeface="Arial"/>
            </a:endParaRPr>
          </a:p>
        </p:txBody>
      </p:sp>
      <p:sp>
        <p:nvSpPr>
          <p:cNvPr id="92"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23</a:t>
            </a:r>
            <a:endParaRPr b="0" lang="en-US" sz="2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143000" y="2057400"/>
            <a:ext cx="71629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Galatians 3:19, to what point in time was the Old Covenant to serve? </a:t>
            </a:r>
            <a:endParaRPr b="0" lang="en-US" sz="2800" spc="-1" strike="noStrike">
              <a:solidFill>
                <a:srgbClr val="000000"/>
              </a:solidFill>
              <a:latin typeface="Arial"/>
            </a:endParaRPr>
          </a:p>
        </p:txBody>
      </p:sp>
      <p:sp>
        <p:nvSpPr>
          <p:cNvPr id="96" name=""/>
          <p:cNvSpPr/>
          <p:nvPr/>
        </p:nvSpPr>
        <p:spPr>
          <a:xfrm>
            <a:off x="29797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23</a:t>
            </a:r>
            <a:endParaRPr b="0" lang="en-US" sz="2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Matthew 5:17 say fulfilled the Old Law? </a:t>
            </a:r>
            <a:endParaRPr b="0" lang="en-US" sz="2800" spc="-1" strike="noStrike">
              <a:solidFill>
                <a:srgbClr val="000000"/>
              </a:solidFill>
              <a:latin typeface="Arial"/>
            </a:endParaRPr>
          </a:p>
        </p:txBody>
      </p:sp>
      <p:sp>
        <p:nvSpPr>
          <p:cNvPr id="100"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23</a:t>
            </a:r>
            <a:endParaRPr b="0" lang="en-US" sz="2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one can be saved by obeying the Old Testament law to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is said in Galatians 5:4 of the person who tries to justify his religious practices by the Old Law today?</a:t>
            </a:r>
            <a:endParaRPr b="0" lang="en-US" sz="2800" spc="-1" strike="noStrike">
              <a:solidFill>
                <a:srgbClr val="000000"/>
              </a:solidFill>
              <a:latin typeface="Arial"/>
            </a:endParaRPr>
          </a:p>
        </p:txBody>
      </p:sp>
      <p:sp>
        <p:nvSpPr>
          <p:cNvPr id="110"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23</a:t>
            </a:r>
            <a:endParaRPr b="0" lang="en-US" sz="2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one can be saved by obeying the Old Testament law to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one can be saved by obeying the Old Testament law toda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o we still have the Old Testament Scriptur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o we still have the Old Testament Scriptur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295280" y="327672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5:3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9)</a:t>
            </a:r>
            <a:r>
              <a:rPr b="0" lang="en-US" sz="2800" spc="-1" strike="noStrike">
                <a:solidFill>
                  <a:srgbClr val="000000"/>
                </a:solidFill>
                <a:latin typeface="Arial"/>
              </a:rPr>
              <a:t> "You search the Scriptures, for in them you think you have eternal life; and these are they which testify of Me."</a:t>
            </a:r>
            <a:endParaRPr b="0" lang="en-US" sz="2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43000" y="2057400"/>
            <a:ext cx="6553080" cy="26535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following passages, why do we still have the Old Testament in our Bibles?</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1880" indent="-4618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John 5:39.</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a, p. 23</a:t>
            </a:r>
            <a:endParaRPr b="0" lang="en-US" sz="2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o we still have the Old Testament Scriptur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5: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For whatever things were written before were written for our learning, that we through the patience and comfort of the Scriptures might have hope.</a:t>
            </a:r>
            <a:endParaRPr b="0" lang="en-US" sz="2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143000" y="2057400"/>
            <a:ext cx="6553080" cy="26535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following passages, why do we still have the Old Testament in our Bibles?</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1880" indent="-4618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Romans 15:4.</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2751480" y="1523880"/>
            <a:ext cx="344052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b, p. 23</a:t>
            </a:r>
            <a:endParaRPr b="0" lang="en-US" sz="2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o we still have the Old Testament Scriptur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0:1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0" lang="en-US" sz="2800" spc="-1" strike="noStrike">
                <a:solidFill>
                  <a:srgbClr val="000000"/>
                </a:solidFill>
                <a:latin typeface="Arial"/>
              </a:rPr>
              <a:t> Now all these things happened to them as examples, and they were written for our admonition, upon whom the ends of the ages have come.</a:t>
            </a:r>
            <a:endParaRPr b="0" lang="en-US" sz="2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143000" y="2057400"/>
            <a:ext cx="6553080" cy="26535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following passages, why do we still have the Old Testament in our Bibles?</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1880" indent="-461880">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1 Corinthians 10:11.</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c, p. 23</a:t>
            </a:r>
            <a:endParaRPr b="0" lang="en-US" sz="2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12:4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8)</a:t>
            </a:r>
            <a:r>
              <a:rPr b="0" lang="en-US" sz="2800" spc="-1" strike="noStrike">
                <a:solidFill>
                  <a:srgbClr val="000000"/>
                </a:solidFill>
                <a:latin typeface="Arial"/>
              </a:rPr>
              <a:t> "He who rejects Me, and does not receive My words, has that which judges him -- the word that I have spoken will judge him in the last day."</a:t>
            </a:r>
            <a:endParaRPr b="0" lang="en-US" sz="2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95280" y="327672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28:1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a:t>
            </a:r>
            <a:r>
              <a:rPr b="0" lang="en-US" sz="2800" spc="-1" strike="noStrike">
                <a:solidFill>
                  <a:srgbClr val="000000"/>
                </a:solidFill>
                <a:latin typeface="Arial"/>
              </a:rPr>
              <a:t> And Jesus came and spoke to them, saying, "All authority has been given to Me in heaven and on earth."</a:t>
            </a:r>
            <a:endParaRPr b="0" lang="en-US" sz="2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295280" y="3124080"/>
            <a:ext cx="7010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1:1-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God, who at various times and in various ways spoke in time past to the fathers by the prophe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has in these last days spoken to us by His Son, whom He has appointed heir of all things, through whom also He made the worlds…</a:t>
            </a:r>
            <a:endParaRPr b="0" lang="en-US" sz="2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295280" y="312408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Colossians 3: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And whatever you do in word or deed, do all in the name of the Lord Jesus, giving thanks to God the Father through Him.</a:t>
            </a:r>
            <a:endParaRPr b="0" lang="en-US" sz="2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contains all things that pertain to life and godlines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2 Peter 1:3 say that the New Testament contains?</a:t>
            </a:r>
            <a:endParaRPr b="0" lang="en-US" sz="2800" spc="-1" strike="noStrike">
              <a:solidFill>
                <a:srgbClr val="000000"/>
              </a:solidFill>
              <a:latin typeface="Arial"/>
            </a:endParaRPr>
          </a:p>
        </p:txBody>
      </p:sp>
      <p:sp>
        <p:nvSpPr>
          <p:cNvPr id="174"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23</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contains all things that pertain to life and godlines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ccording to 2 Timothy 3:16-17, does the New Testament do for the Christian?</a:t>
            </a:r>
            <a:endParaRPr b="0" lang="en-US" sz="2800" spc="-1" strike="noStrike">
              <a:solidFill>
                <a:srgbClr val="000000"/>
              </a:solidFill>
              <a:latin typeface="Arial"/>
            </a:endParaRPr>
          </a:p>
        </p:txBody>
      </p:sp>
      <p:sp>
        <p:nvSpPr>
          <p:cNvPr id="18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23</a:t>
            </a:r>
            <a:endParaRPr b="0" lang="en-US" sz="2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contains all things that pertain to life and godlines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teaches us in three way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teaches us in three way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irect statement or command.</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teaches us in three way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irect statement or command.</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roved example.</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teaches us in three way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irect statement or command.</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roved example.</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cessary inference.</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5"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6" name="PlaceHolder 2"/>
          <p:cNvSpPr>
            <a:spLocks noGrp="1"/>
          </p:cNvSpPr>
          <p:nvPr>
            <p:ph/>
          </p:nvPr>
        </p:nvSpPr>
        <p:spPr>
          <a:xfrm>
            <a:off x="457200" y="17521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6.</a:t>
            </a:r>
            <a:endParaRPr b="0" lang="en-US" sz="30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p:txBody>
      </p:sp>
      <p:sp>
        <p:nvSpPr>
          <p:cNvPr id="2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8"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0">
              <a:spcBef>
                <a:spcPts val="13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2"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Time of Observance: “On the first day of the week.”</a:t>
            </a:r>
            <a:endParaRPr b="0" lang="en-US" sz="2600" spc="-1" strike="noStrike">
              <a:solidFill>
                <a:srgbClr val="000000"/>
              </a:solidFill>
              <a:latin typeface="Arial"/>
            </a:endParaRPr>
          </a:p>
          <a:p>
            <a:pPr lvl="2" marL="1523880" indent="0">
              <a:spcBef>
                <a:spcPts val="11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6"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Time of Observance: “On the first day of the week.”</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Necessary Inference</a:t>
            </a:r>
            <a:r>
              <a:rPr b="1" lang="en-US" sz="3000" spc="-1" strike="noStrike">
                <a:solidFill>
                  <a:srgbClr val="000000"/>
                </a:solidFill>
                <a:latin typeface="Arial"/>
              </a:rPr>
              <a:t>: Acts 20:7.</a:t>
            </a:r>
            <a:endParaRPr b="0" lang="en-US" sz="3000" spc="-1" strike="noStrike">
              <a:solidFill>
                <a:srgbClr val="000000"/>
              </a:solidFill>
              <a:latin typeface="Arial"/>
            </a:endParaRPr>
          </a:p>
        </p:txBody>
      </p:sp>
      <p:sp>
        <p:nvSpPr>
          <p:cNvPr id="2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0"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Time of Observance: “On the first day of the week.”</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Necessary Inferenc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Frequency of Observance: Every first day of the week.</a:t>
            </a:r>
            <a:endParaRPr b="0" lang="en-US" sz="2600" spc="-1" strike="noStrike">
              <a:solidFill>
                <a:srgbClr val="000000"/>
              </a:solidFill>
              <a:latin typeface="Arial"/>
            </a:endParaRPr>
          </a:p>
        </p:txBody>
      </p:sp>
      <p:sp>
        <p:nvSpPr>
          <p:cNvPr id="23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p:txBody>
      </p:sp>
      <p:sp>
        <p:nvSpPr>
          <p:cNvPr id="2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order to understand how the Bible teaches, we need to understand authority in religion—what it is, why it is needed, how it is expressed and how it is established.</a:t>
            </a:r>
            <a:endParaRPr b="0" lang="en-US" sz="2800" spc="-1" strike="noStrike">
              <a:solidFill>
                <a:srgbClr val="000000"/>
              </a:solidFill>
              <a:latin typeface="Arial"/>
            </a:endParaRPr>
          </a:p>
          <a:p>
            <a:pPr marL="812880"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order to understand how the Bible teaches, we need to understand authority in religion—what it is, why it is needed, how it is expressed and how it is established.</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order to do God’s will we must understand how God’s word teaches us.</a:t>
            </a:r>
            <a:endParaRPr b="0" lang="en-US" sz="28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4"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1"/>
          <a:srcRect l="0" t="0" r="9602" b="0"/>
          <a:stretch/>
        </p:blipFill>
        <p:spPr>
          <a:xfrm>
            <a:off x="1981080" y="1066680"/>
            <a:ext cx="4977000" cy="550548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2-06T21:48:16Z</dcterms:modified>
  <cp:revision>27</cp:revision>
  <dc:subject/>
  <dc:title>Slide 1</dc:title>
</cp:coreProperties>
</file>